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5.png" ContentType="image/png"/>
  <Override PartName="/ppt/media/image7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3.jpeg" ContentType="image/jpeg"/>
  <Override PartName="/ppt/media/image23.jpeg" ContentType="image/jpeg"/>
  <Override PartName="/ppt/media/image18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53AA-54C2-47A5-B019-C1E1412AE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8868-0AD8-44AE-A47A-3C21500EC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D828-EDDE-499E-ADB7-3DE498332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BDAF-07C4-4BA1-B22A-4609C9E55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27B6E-E438-41F0-834D-1915AEF47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82DA2-618C-44E3-A900-BDB2B4EB7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A4D2D-2C43-4E26-9A73-EE0AD1EDE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14120-5DAD-4C86-BE59-5B40E1D9C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69500-2DFB-4DE1-ACD9-211D5C38B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D7B19-1EB8-4F7D-85D9-BDF6F5902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1FF6F-4DF0-44B9-8CF1-491DA8B79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1CD1-219E-4EC7-B4D4-B17A0A400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97144-47B1-493F-AA46-9AFA6526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A3764-5862-4969-9DC2-0C38F208D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DE254-6B6B-4B74-94DA-5E9F0569D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6985C-71FE-4241-8936-EDEEF89CE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184CA-A226-46B6-9F3A-61D28D32D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CA58-92F5-4AF6-B182-56AE13CD4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4DB9-9BDE-4239-93F6-9A7724E73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D1CA-A994-42C6-BB0D-FFC8FF130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AED3-6C07-427A-AB3B-FE3002735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7E11-7BAD-48BD-BBC3-995AD1EF0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A0C0-6827-4048-AE44-17AFDD40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721B-F029-48E7-A314-57BE66B46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93F11-52EB-4226-B1CE-053B13C548F2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4B07A-97B6-42FF-8F21-CF56F3007EA0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washingtonpost.com/wp-dyn/content/article/2008/02/25/AR2008022500970.html" TargetMode="External"/><Relationship Id="rId3" Type="http://schemas.openxmlformats.org/officeDocument/2006/relationships/image" Target="../media/image3.png"/><Relationship Id="rId4" Type="http://schemas.openxmlformats.org/officeDocument/2006/relationships/hyperlink" Target="http://www.kubatana.net/docs/wild/graham_child_elephant_culling_0401.pdf" TargetMode="External"/><Relationship Id="rId5" Type="http://schemas.openxmlformats.org/officeDocument/2006/relationships/image" Target="../media/image3.png"/><Relationship Id="rId6" Type="http://schemas.openxmlformats.org/officeDocument/2006/relationships/hyperlink" Target="http://www.southafrica.info/about/sustainable/culling-150807.htm" TargetMode="External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jpeg"/><Relationship Id="rId10" Type="http://schemas.openxmlformats.org/officeDocument/2006/relationships/hyperlink" Target="http://images.google.com/imgres?imgurl=http://www.mccullagh.org/db9/10d-17/male-greater-kudu.jpg&amp;imgrefurl=http://www.mccullagh.org/image/10d-17/male-greater-kudu.html&amp;usg=__8eVNC6Rmgbgu_nQVXIcTyAwmCHc=&amp;h=512&amp;w=768&amp;sz=198&amp;hl=en&amp;start=2&amp;um=1&amp;itbs=1&amp;tbnid=Oev0vksAuCE_dM:&amp;tbnh=95&amp;tbnw=142&amp;prev=/images%3Fq%3Dkudu%26um%3D1%26hl%3Den%26safe%3Dactive%26sa%3DN%26rlz%3D1T4ADFA_enUS357US359%26tbs%3Disch:1" TargetMode="External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hyperlink" Target="http://images.google.com/imgres?imgurl=http://cache.virtualtourist.com/1897592-The_Kruger_National_Park_from_Above-Kruger_National_Park.jpg&amp;imgrefurl=http://members.virtualtourist.com/m/82e12/21e7b4/&amp;usg=__ChlvAEniaWUfmKvjhbsc1x7Rwf0=&amp;h=420&amp;w=560&amp;sz=52&amp;hl=en&amp;start=11&amp;um=1&amp;itbs=1&amp;tbnid=QYz-JxA68AFekM:&amp;tbnh=100&amp;tbnw=133&amp;prev=/images%3Fq%3Dkruger%2Bnational%2Bpark%2Bpictures%26um%3D1%26hl%3Den%26safe%3Dactive%26rlz%3D1T4ADFA_enUS357US359%26tbs%3Disch:1" TargetMode="External"/><Relationship Id="rId6" Type="http://schemas.openxmlformats.org/officeDocument/2006/relationships/image" Target="../media/image17.jpeg"/><Relationship Id="rId7" Type="http://schemas.openxmlformats.org/officeDocument/2006/relationships/hyperlink" Target="http://images.google.com/imgres?imgurl=http://cache.virtualtourist.com/4294542-KRUGER_NATIONAL_PARK-Kruger_National_Park.jpg&amp;imgrefurl=http://members.virtualtourist.com/m/110824/21e7b4/&amp;usg=__dLjHFFlosu14hgGqzvVcEByWsA4=&amp;h=350&amp;w=560&amp;sz=52&amp;hl=en&amp;start=12&amp;um=1&amp;itbs=1&amp;tbnid=6ohD_2r0pLdmNM:&amp;tbnh=83&amp;tbnw=133&amp;prev=/images%3Fq%3Dkruger%2Bnational%2Bpark%2Bpictures%26um%3D1%26hl%3Den%26safe%3Dactive%26rlz%3D1T4ADFA_enUS357US359%26tbs%3Disch:1" TargetMode="External"/><Relationship Id="rId8" Type="http://schemas.openxmlformats.org/officeDocument/2006/relationships/image" Target="../media/image18.jpeg"/><Relationship Id="rId9" Type="http://schemas.openxmlformats.org/officeDocument/2006/relationships/hyperlink" Target="http://images.google.com/imgres?imgurl=http://www.kwathabeng.co.za/travel/map/kruger-national-park-map.gif&amp;imgrefurl=http://www.kwathabeng.co.za/travel/kruger-national-park-map.html&amp;usg=__UEHDsWjSEHFWRLWjIplP4Fg0ijY=&amp;h=864&amp;w=350&amp;sz=39&amp;hl=en&amp;start=16&amp;um=1&amp;itbs=1&amp;tbnid=JN6FLpVMBBcxqM:&amp;tbnh=145&amp;tbnw=59&amp;prev=/images%3Fq%3Dkruger%2Bnational%2Bpark%2Bpictures%26um%3D1%26hl%3Den%26safe%3Dactive%26rlz%3D1T4ADFA_enUS357US359%26tbs%3Disch:1" TargetMode="External"/><Relationship Id="rId10" Type="http://schemas.openxmlformats.org/officeDocument/2006/relationships/image" Target="../media/image19.jpeg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ULLING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219320" y="1523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Natasha McLaren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Deanna Cooper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28600" y="3013200"/>
            <a:ext cx="8610480" cy="384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How they killed the Elephant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Hunters used the lethal transquillising drug succinylcholine chloride (better known as Scoline),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280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They were herded together then darted with the drug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If they didn’t die fast, they were shot in the head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More than 16,000 elephants cruelly killed in Krugar National Park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5"/>
          <a:stretch/>
        </p:blipFill>
        <p:spPr>
          <a:xfrm>
            <a:off x="1676520" y="3243240"/>
            <a:ext cx="5410080" cy="361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YOUTUBE VIDEO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http://www.youtube.com/watch?v=mtWczF2hRuY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http://www.youtube.com/watch?v=GiQs0U_TkBM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Resource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0b854"/>
                </a:solidFill>
                <a:uFillTx/>
                <a:latin typeface="Arial"/>
                <a:hlinkClick r:id="rId2"/>
              </a:rPr>
              <a:t>http://www.washingtonpost.com/wp-dyn/content/article/2008/02/25/AR2008022500970.htm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0b854"/>
                </a:solidFill>
                <a:uFillTx/>
                <a:latin typeface="Arial"/>
                <a:hlinkClick r:id="rId4"/>
              </a:rPr>
              <a:t>http://www.kubatana.net/docs/wild/graham_child_elephant_culling_0401.pdf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0b854"/>
                </a:solidFill>
                <a:uFillTx/>
                <a:latin typeface="Arial"/>
                <a:hlinkClick r:id="rId6"/>
              </a:rPr>
              <a:t>http://www.southafrica.info/about/sustainable/culling-150807.htm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http://www.ifaw.org/ifaw_southern_africa/join_campaigns/national_regional_efforts/the_debate_on_elephant_culling_in_south_africa/shortcut_of_elephant_culling%238217;s_cruel_and_gory_past.php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http://www.youtube.com/v/GiQs0U_TkBM&amp;hl=en_US&amp;fs=1&amp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What Is Culling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Culling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is the process of removing animals from a group based on specific criteria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ypically this is done because the animal is causing ecosystem damage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2209680" y="4114800"/>
            <a:ext cx="441972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How They Damage the Environment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No species, other than man, can modify habitats as rapidly and extensively as elephant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oo many elephants causes loss of trees, grasses, sensitive grazing specie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Replaced by thickets, impala  and kudu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ome of the damages caused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soil capping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reduced infiltration of water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increased run off of rainwater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leads to accelerated soil erosion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9"/>
          <a:stretch/>
        </p:blipFill>
        <p:spPr>
          <a:xfrm>
            <a:off x="5715000" y="4116240"/>
            <a:ext cx="3429000" cy="27417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155520" y="46080"/>
            <a:ext cx="1825560" cy="147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History of Elephant Culling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Elephants were killed due to damage of the ecosystem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his caused the elephants to become endangered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Now the elephants are preserved in park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he elephants are thriving in these parks and causing damage to the ecosystem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Now people are starting to cull in these park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f1311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s mostly takes place in Krugar National Park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6"/>
          <a:stretch/>
        </p:blipFill>
        <p:spPr>
          <a:xfrm>
            <a:off x="7086600" y="2089080"/>
            <a:ext cx="2057400" cy="165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South African Elephant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63160" y="1598400"/>
            <a:ext cx="6838920" cy="40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Sharpshooters in helicopters routinely killed hundreds of elephants at a time as a way to manage destructive herds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Big game hunting had severely depleted southern Africa's elephant population by the early 1900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South Africa announced it will end its 1995 suspension of elephant culling to manage its burgeoning elephant populations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62120" y="4952520"/>
            <a:ext cx="688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Since the 1995 suspension, the elephant population in Kruger National Park has grown from 8,000 to an estimated 12,500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19720" cy="33148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1981080" y="3886200"/>
            <a:ext cx="4876920" cy="26766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Elephants in Zimbabw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Zimbabwe has a population of 100 000 elephant in habitats that can support about half that number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Mismanagement of the elephants is a serious danger that puts humans, elephants and the environment in danger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2209680" y="4629240"/>
            <a:ext cx="4038840" cy="22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55680" y="227160"/>
            <a:ext cx="723096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ulling Protest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A Price On The Head Of Every Elephant In Kruger National Park?”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Many see culling in South Africa as a flaw in logic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Culling is completely unnecessary and illogical given the number of alternatives available”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Culling is seen as a short-term fix, not a long-term solution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858000" y="0"/>
            <a:ext cx="2286000" cy="17193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505320" y="5029200"/>
            <a:ext cx="3047760" cy="18288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62120" y="0"/>
            <a:ext cx="1292040" cy="163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3200400" cy="36860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3581280" y="1905120"/>
            <a:ext cx="5334120" cy="4066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4:15:34Z</dcterms:created>
  <dc:creator>SASD</dc:creator>
  <dc:description/>
  <dc:language>en-US</dc:language>
  <cp:lastModifiedBy>sasd</cp:lastModifiedBy>
  <dcterms:modified xsi:type="dcterms:W3CDTF">2010-02-23T16:09:45Z</dcterms:modified>
  <cp:revision>11</cp:revision>
  <dc:subject/>
  <dc:title>CULLING</dc:title>
</cp:coreProperties>
</file>